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8435-0775-4AC3-A957-F3E6F1F88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071A-5B04-489B-ABA3-BCEE608D5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B7DB-81E4-4FEA-B45E-3B768DB8E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244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92928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596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244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92928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02EF-3E99-4408-A5DE-4FFA7BA10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779DB-A468-4667-A1A4-EB6136F8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5C335-61BB-471E-837A-F89C1737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19A6A-2620-44ED-80DA-A822074C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7FDD2-9082-4A15-89D5-3CA6E55E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680BB-91C9-4499-AD49-0F087DA2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632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52CB4-C8C5-4803-AD1D-6D0250A0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B2E1E-9F59-4732-8071-1CAAD398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5CF1-F85F-405F-80B5-CE40B364E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7377F-084A-49C7-8683-C61FCB7C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152FA-C4D7-431D-B3F3-6AF2186B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79C59-F929-4BC0-B90A-13E6FAEE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6CD60-059F-46B0-A8B8-8BF8302B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244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928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596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244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92928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80CF7-AFDC-4773-B8E8-C46474EC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6800-4D1A-4E10-AC9C-992F5A8A1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D6FD-07E8-44E4-B7D2-E614293C0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876B-60AB-45A4-BD4B-263DCDA62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632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8B06-AF57-40AC-AE60-11D280D49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70F8-BD70-42DA-83D5-BA568F2D4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7641-DA2B-4174-A7E3-F942F6891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9036-0957-4E15-AE3B-60713B696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38680"/>
            <a:ext cx="8164440" cy="30193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6692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533520" indent="-533520">
              <a:spcBef>
                <a:spcPts val="45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533520" indent="-533520">
              <a:spcBef>
                <a:spcPts val="45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533520" indent="-53352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533520" indent="-533520">
              <a:spcBef>
                <a:spcPts val="451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533520" indent="-533520">
              <a:spcBef>
                <a:spcPts val="451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533520" indent="-533520">
              <a:spcBef>
                <a:spcPts val="451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501040" y="6629040"/>
            <a:ext cx="71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802F-E3B1-4857-9098-BD557D09F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553080"/>
            <a:ext cx="9220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838080"/>
            <a:ext cx="9220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01A3-108C-4715-8A63-D58FE12A16B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B64F-6596-4940-B920-A49735A13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2120" y="1904760"/>
            <a:ext cx="868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n-GB" sz="4400" spc="-1" strike="noStrike">
                <a:solidFill>
                  <a:srgbClr val="ff0000"/>
                </a:solidFill>
                <a:latin typeface="Comic Sans MS"/>
              </a:rPr>
              <a:t>i-Tasks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br>
              <a:rPr sz="2800"/>
            </a:b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teractive workflow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Tasks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or the WWWEB</a:t>
            </a:r>
            <a:br>
              <a:rPr sz="2800"/>
            </a:b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___________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19560"/>
            <a:ext cx="8305920" cy="831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Rinus Plasmeij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niversity of Nijmege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ww.cs.ru.nl/~c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V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[Int]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81320" y="2498760"/>
            <a:ext cx="5962680" cy="39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7E43-E5E2-4108-9CF4-492F1B6766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:: String a 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makes an edito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Task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n interactive task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lass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 gForm {|*|}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,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Upd  {|*|},  gParse  {|*|}, gPrint  {|*|},  gerda  {|*|}, TC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 requires the instantiation of several generic functions for type "a" e.g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tml form creation, handling, parsing, printing, data storage, function storage, …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ich can all, on request, automatically be derived by the compiler !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ptions can be set: 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 3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a) b  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Task a 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setTaskAttr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Lifespa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Databas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xtFil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Sessio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Pag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emp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orageForma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StaticDynamic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Plain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Mod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Edi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Submi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Display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oFor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FA04-D8A2-4084-8001-AED73621A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I, Submit, Databa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Perso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Submit)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atabas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90920" y="1581120"/>
            <a:ext cx="47530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62B0-ABAE-401D-86B4-F4B1E54728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quencing of tasks / prompting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quencing / composition of tasks (monadic styl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 infix  1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a) (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b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#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l 1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a) (Task b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turning plain values as a Task value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turn_V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turn_D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mpting as long as / as soon as a task is activated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?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 5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[BodyTag]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!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 5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[BodyTag]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A8A5-CAF3-44DF-A1E1-C699F4E4AC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quence of iTas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00"/>
                </a:solidFill>
                <a:latin typeface="Comic Sans MS"/>
              </a:rPr>
              <a:t>sumInt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(Task Int)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umI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"Done"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efault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\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1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-&gt; 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"Done"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efault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\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2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-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[Txt "+", Hr [] 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cc66"/>
                </a:solidFill>
                <a:latin typeface="Comic Sans MS"/>
              </a:rPr>
              <a:t>!&gt;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return_D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1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2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84840" y="2205000"/>
            <a:ext cx="310500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E95B-5681-4666-BE30-158A9AB353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tml co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 Clean Algebraic Data Type (ADT) is defined isomorphic with Html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vides a grammar only allowing syntactic "correct" html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ype error otherwi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 generic function is used to generate Html code out of i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BodyTa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A_Attr] [BodyTag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link ancor &lt;a&gt;&lt;/a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bbr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bbreviation &lt;abbr&gt;&lt;/abbr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cronym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cronym &lt;acronym&gt;&lt;/acronym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ddress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ddress &lt;address&gt;&lt;/address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pple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Applet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pplet &lt;applet&gt;&lt;/applet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re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Area_Attr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link area in an image &lt;area&gt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bold &lt;b&gt;&lt;/b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x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String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plain tex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U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underlined text &lt;u&gt;&lt;/u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Ul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Ul_Attr] [BodyTag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unordered list &lt;ul&gt;&lt;/ul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Var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variable text &lt;var&gt;&lt;/var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7C33-BB16-4B9B-A5E3-BA1A0EAA14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ffeemachine (1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35160" y="3618000"/>
            <a:ext cx="5919840" cy="32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320" y="1378080"/>
            <a:ext cx="6553080" cy="358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538440" y="255600"/>
            <a:ext cx="5416560" cy="31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387F-1E7E-4C90-A15B-0668717D5A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ll kind of task combinator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oop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forever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oose 1 out of n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[(String,Task a)]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oose m out of n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mchoiceTasks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(String,Task a)]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[a]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r task, do all in any order, finish as soon as one complet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-||-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r 3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orTasks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[(String,Task a)]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d task, do all in any order, and finish when all complet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-&amp;&amp;-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r 4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(Task b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(a,b)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 &amp; iData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ndTasks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[(String,Task a)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[a]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reat user defined function as a new task: enables recursio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String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694F-5E19-47FC-8555-A09712B771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ffeemachine (2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infCoffe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reverTask_GC CoffeeMachi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ffeeMachi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Task (String, I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ffeeMachi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"Choose product:"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 ("Coffee: 100",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100,"Coffee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("Cappucino: 150",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150,"Cappucino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("Tee: 50",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50, "Tee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("Choclate: 100",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100,"Choclate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(toPay, product) -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Chosen product: " &lt;+++ product)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oPay, 0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(cancel, returnMoney)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&gt;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let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nproduct = 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if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cancel "Cancelled" product 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i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product = " &lt;+++ nproduct &lt;+++ "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eturned money = " &lt;+++ returnMoney)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Thanks" (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nproduct, returnMoney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7386-2FAF-418D-986E-1A67A67C5D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ffeemachine (3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(Int, Int) -&gt; Task (Bool, I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oPay, paid)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getCoins"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`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e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`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To pay: " &lt;+++ toPay)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[  (i +++&gt; " cts",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False, i)) \\ c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-||-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Cancel" (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rue, 0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ndleMone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ndleMoney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cancel, coi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 cance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rue, paid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 toPay - coin &gt; 0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oPay - coin, paid + coi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 otherwis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False, coin - toPay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ins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 5, 10, 20, 50, 100, 200 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2633-F7C8-45F8-B72D-6EB106E3B1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omic Sans MS"/>
              </a:rPr>
              <a:t>Clean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8748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ate-Of-The-Art Pure Functional Programming Languag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zy, pure, higher order functions and types, lots of featur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lean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s an extended subset of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skel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–  de-facto standard (GHC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skel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s an extended subset of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ome small syntactical and semantical differences, design cho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ean has no GADT'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xtr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facilities in Clean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I/O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: Uniqueness Typing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&lt;-&gt; Monad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Re-usage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: Generic programming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ncluded &lt;-&gt; Generic Haskell preprocesso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Hybrid typing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: Static as well as Dynamic typing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&lt;-&gt; poor man's Dynamic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Type safe plug-inn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ean Compiler is much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ast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r (4</a:t>
            </a:r>
            <a:r>
              <a:rPr b="0" lang="en-GB" sz="1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place language shootout, after 3 C compilers 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 third party Haskell -&gt; Clean compiler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skel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/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lean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code can be combined in next Clean rele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904760" cy="9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4251-B7F4-4A6E-A4A8-CDD730FCB7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example: Review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18080" y="928800"/>
            <a:ext cx="4541760" cy="5624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440" y="914400"/>
            <a:ext cx="446256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818A-3F5D-4A64-B91F-A639A4B866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example: Review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4521240" cy="5638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1440" y="914400"/>
            <a:ext cx="446256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5C33-28B5-49A3-B205-FA15BA327C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combinator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ulti-user 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@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 infix 3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String, </a:t>
            </a:r>
            <a:r>
              <a:rPr b="0" lang="en-US" sz="1600" spc="-1" strike="noStrike">
                <a:solidFill>
                  <a:srgbClr val="99ff99"/>
                </a:solidFill>
                <a:latin typeface="Comic Sans MS"/>
              </a:rPr>
              <a:t>In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) (Task a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@: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3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</a:t>
            </a:r>
            <a:r>
              <a:rPr b="0" lang="en-US" sz="1600" spc="-1" strike="noStrike">
                <a:solidFill>
                  <a:srgbClr val="99ff99"/>
                </a:solidFill>
                <a:latin typeface="Comic Sans MS"/>
              </a:rPr>
              <a:t>In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F1DE-07E7-4B72-B656-093A9C1DD1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view Task (1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ReviewState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Approved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Cancelled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NeedsRework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TextArea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Draf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view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Review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view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v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 [toHtml v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?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[ ("Rework",  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(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eedsRewor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createDefault)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Submi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, ("Approved",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return_V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pproved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, ("Reject",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Rejected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B29B-FB5D-4426-95C6-F8354C3944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view Task (2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Int (a, 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Task a)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Task (a, Review) 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val, task)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taskToReview"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`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e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`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ask val            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\newval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vi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newval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\review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Reviewer " &lt;+++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&lt;+++ " says ") , toHtml review, Br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OK" Voi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#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cas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review 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of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NeedsRewor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_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newval, task)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lse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newval, review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0D5A-604E-43ED-81EB-D16AD629AB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view Task (3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9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QForm =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{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toComp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startDate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HtmlD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endDate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HtmlD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estimatedHours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I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description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TextAre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price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Real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artTask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:: Task (QForm, Review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ar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1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createDefault,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y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y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y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v = [Txt "Fill in Form:"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TaskDone" v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ubmi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371B-61DB-49BC-A1D0-06E1556E74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igher-Order Tas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asks not only deliver values, they may deliver a task under development !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TClosure a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Closur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Maybe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Jus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a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othing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rTask variant: a task is either finished, or interrupted if the stop task is finished soon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-!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4  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stop) (Task a) -&gt; (Task (Maybe stop, TClosure a)) 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stop &amp; iData 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EDC0-5A55-4700-8DD6-0EC5FC1A3E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example: delegate a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3278160" cy="2495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548160" y="898560"/>
            <a:ext cx="3321000" cy="243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320" y="3916440"/>
            <a:ext cx="3238560" cy="2536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354480" y="3691080"/>
            <a:ext cx="2703600" cy="2762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219720" y="3691080"/>
            <a:ext cx="2703600" cy="27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34B3-C48A-4DDA-BCB3-35AB9B6DC5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elegate a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9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egateToSomeo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Int (Task a) [Int]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egateToSomeo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m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task set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delegateToSomeone"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oDeleg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e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oDelegat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orTask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 ("Waiting for " &lt;+++ wh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who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[("I Will Do It“,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who)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) \\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who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et ]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volunte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volunte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topIt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99"/>
                </a:solidFill>
                <a:latin typeface="Comic Sans MS"/>
              </a:rPr>
              <a:t>-!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(stopped,TClosure task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if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isJust stopped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egateToSomeo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m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task set) task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topIt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stop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-||-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m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top)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op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[("Stop“,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return_V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rue)]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608F-67DB-4D25-A297-A0092F8F4C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clusions  and Future Wor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9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8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89160" indent="-38916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8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act notation, many details are handled automati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ery intuitive for functional programmer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others programmers ??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l "standard" workflows patterns off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Graphical workflow diagrams can be translated to iTasks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ffers a lot of additional expressive po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re complicated real world workflow situations can be defin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ly re-usable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Future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how applicability via larger real world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eb shop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nference management syste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bine with Client side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ean interpreter running in browser, “Ajax” technolog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egrate with main stream web development tools (Dreamweav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A1B9-5E87-4F5A-8035-5664CDFC53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hy workflows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8748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W project “Demand Driven Workflows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ew approach on specifying workflows making use of "lazy evaluation"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niversity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U Eindhoven (Van der Aals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adBoud University Nijmegen (Plasmeijer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ndustry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alas Athena (Eindhove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BZ (Utrech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IA (Nijmegen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i-Task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"Simple" approach to make a quick star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lready offers more functionality than commercial systems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2A2D-9245-41BA-B56E-644A4B28BC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Task Approach 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533520" y="690480"/>
            <a:ext cx="9909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udy “Workflow Patterns”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Van der Aalst, ter Hofstede, Kiepuszewski, Barr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&gt; 30 product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Staffware, Cosa, InConcert, Eastman Software, FLOWe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omino Workflow, Meteor, Mobile, MQSeries, Forte Conductor,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erve, Visual WorkFlo, Changengine, I-Flow, SAP R/3 Workflow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patter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sequence, recursion, exclusive choice, multiple choice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plit/merge (parallel or, parallel and, discriminator), ..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Workflow Patterns can "straightforwardly" be implemented in Cle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sing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i-Dat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Clean library for handling interactive web form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sing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generic functio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highly reusable functions, given a type they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generate a (typed) html for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eal with a change made by a user in a for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nable separation between model (value returned) and view (the look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utomatically store and retrieve info in a file or datab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7A49-2C1C-4F8B-BC40-5DC6B8F9E5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Task Approach I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533520" y="690480"/>
            <a:ext cx="9909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isadvantages over Commercial System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o nice graphical interface for defining workflows: just Clean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first version, limited interfaces to real world, lots of additional wish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Advantages over Commercial System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eclarative, executable specificat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orkflows are statically typed, input type checked as well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ighly reusable code: polymorphic, overloaded, generic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orkflows are dynamically construct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low can depend on the actual content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ully compositiona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igher order: a workflow can be a workflow -&gt; shift work to someone el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t generates a multi-user web enabled (!) workflow syste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&lt; 1000 lines of code based on Clean’s i-Data library for the we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6DCA-7148-4ABF-A922-853148F0F0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dule examp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mport StdEnv, Std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rt world = doHtmlServer (singleUserTask 0 True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wor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I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57640" y="3081240"/>
            <a:ext cx="4086360" cy="33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3A6A-6C4E-4943-91A5-788F99007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dule examp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mport StdEnv, Std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rt world = doHtmlServer (singleUserTask 0 True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wor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(Int, Real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36960" y="3092400"/>
            <a:ext cx="4086360" cy="33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7730-0043-4F30-98DD-1B8B73BF8F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Person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{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am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stree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umber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I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zipCod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ow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or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HtmlDat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Perso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Form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Upd  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Parse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Print 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erda 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2019240"/>
            <a:ext cx="4514760" cy="45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9619-9923-4057-BD7D-F62FA45913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I Submi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Perso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Submi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90920" y="1581120"/>
            <a:ext cx="47530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EBD1-0D00-44C3-B77A-B8F99A9FBD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2:01:42Z</dcterms:created>
  <dc:creator>rinus</dc:creator>
  <dc:description/>
  <dc:language>en-US</dc:language>
  <cp:lastModifiedBy>rinus</cp:lastModifiedBy>
  <dcterms:modified xsi:type="dcterms:W3CDTF">2007-05-20T09:50:00Z</dcterms:modified>
  <cp:revision>1532</cp:revision>
  <dc:subject/>
  <dc:title>  i-Tasks  - interactive workflow tasks  for the WEB ___________   WORK IN PROGRESS  </dc:title>
</cp:coreProperties>
</file>